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F93-80EC-446A-868F-214E457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CA6-3766-4C3D-A392-750B1A12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8DA-9908-4192-8DFA-C76DF507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581-FA41-4EDB-B2C7-9A0A6CB6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2003-EF27-4108-BDC1-60B57F69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E461-6FA1-44ED-BB23-35001C0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C465-2080-43A3-9966-060A7627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DF79-473D-4B20-80AB-590FFA47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B10C-9898-461A-BC76-FA6CEA29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A41F-C7E5-4619-AA0C-CA23B31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BD52-DB0F-452F-862A-07C21B75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D91-BC0F-4B78-A2DF-E8DB7906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B080-7EFD-41E3-95E1-D004B55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F34D-46D3-4A8D-BB73-C5BD59CF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2BF8-938D-40E5-8849-AB795409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A3C7-5AAC-4B0C-8839-B0CF6564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B825-7B57-4D8D-A595-AA737E2B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BDAF-7440-429E-A7D1-38648E53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8A61-6BBD-4727-860B-E8EE56F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84FB-C95B-4C71-B591-A03A0C2C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5612-5D94-4DF8-8B9D-17C516E6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CEA4-0668-4CDF-B21F-DD86E2F3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564-2127-4B91-957D-140E0325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5925-51C1-4F69-95B3-48EB9240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96BB-2662-4856-806B-4F152F1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3497-509D-4EC4-9026-29498D8D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3B253-D1F0-4A61-AA6E-10DF0CF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D945-099D-48B6-9751-D4147F39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33F93-C36A-4A24-A14B-5DBC3BF7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94FC-4611-45C9-99FF-40234D9B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A0C51-1629-41EC-8A5A-B0DD5271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48912-6270-42F5-BEBA-A251872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DF974-BD89-44EA-9EC9-2F9687E5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8C2-27D3-49F3-BE1F-B808F506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6653D-1B9C-4767-99CD-164D4C66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3B7BA-D1E0-49D9-92B0-C0DA8C1E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B1A59-0556-453D-A0EC-076CDEF5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6512B6-AB3F-4048-B26E-E3553D03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5F337-CFAC-4D81-89A2-30D1C867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C3B12-94D0-482E-A546-329F523D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4F5BA2-EEC2-4B03-9D41-330B9253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B13C0D-D0F4-4AA0-B014-B230B1AC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5A025-48D2-4D93-8809-7842E494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B906C-8099-4316-801F-43810C47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E30-EDDC-4A6A-B180-D4228B7C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52240-878D-4D1E-9521-1C8D81EC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B2B9E8-B5B6-4F1C-878C-263B98D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A4D33-F760-41CC-AD00-C2C289B1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8FD8C-2CFA-492E-95B8-F5F3B92E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2CA16-A955-4FD4-98F0-22D5D7AF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F645F-E8F9-4C6A-BD4E-6397CB39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6556C-D5C2-443A-840D-E41E7B74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25A8F-94EA-4E56-8DDF-8852F1C4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F3276D-909B-4A8A-BCD6-B2B0DCDD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70F01-1507-47DD-8468-8BCD87EA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4B6-9465-4FF3-BA27-10A38C55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572E2-4EEB-4CBD-A4BD-D72B2BD8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C59-40CE-463E-9879-52887E7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EC4-C2A1-44E4-92E1-BDACF549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B4D-922B-49FE-AB22-B6A40F9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955A-4A78-4D71-8BED-199206E6EC5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F358-2308-43E1-A08D-409FDED126D1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F8F9-0636-415B-800D-7DFC0713F33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74FE-303A-4187-9D3D-5449FAB6ADE5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C8AA-1C44-4E00-91F8-557988DCBB54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551B-A119-4582-8AF4-853398A4D6DF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F362-09CB-4909-B437-82AA930194BB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C4ED-450C-444E-B103-16BC891143A9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D9DC-14C0-46CB-B307-D5EDC5658F3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77A-B6BC-4346-9073-BEB6EA839ADD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NGAGEMENT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TextBox 9"/>
          <p:cNvSpPr/>
          <p:nvPr/>
        </p:nvSpPr>
        <p:spPr>
          <a:xfrm>
            <a:off x="500040" y="64296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Develops shared norms, Determines readiness for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learning, • Establishes learning goals, Develops metacognitive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capa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XPLORE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500040" y="6429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Prompts inquiry, Structures inquiry, Maintains session mome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XPLAIN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Presents new content, Develops languag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Literacy, Strengthens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LABORATE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Facilitates substantive conversation, Cultivates higher order thinking, Monitors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75f6d"/>
                </a:solidFill>
                <a:latin typeface="Century Schoolbook"/>
              </a:rPr>
              <a:t>EVALUATE: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TEACHER A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Schoolbook"/>
              </a:rPr>
              <a:t>STUDENT ACTIVITI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500040" y="642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Assesses performance against standards, Facilitates student sel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6:21:39Z</dcterms:created>
  <dc:creator>Paul Jones</dc:creator>
  <dc:description/>
  <dc:language>en-US</dc:language>
  <cp:lastModifiedBy>Paul Jones</cp:lastModifiedBy>
  <dcterms:modified xsi:type="dcterms:W3CDTF">2010-03-19T01:28:30Z</dcterms:modified>
  <cp:revision>157</cp:revision>
  <dc:subject/>
  <dc:title>ENGAGEMENT:   • Determines readiness for learning • Establishes learning goals • Develops metacognitive capacity</dc:title>
</cp:coreProperties>
</file>